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2F1-0D20-4C6B-A163-AA40592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90D-D40F-4705-B5C0-63B82B8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CB4-BA84-40F6-B752-7304D8B6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659-79AD-4F51-B8F4-41540758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5F70-F3FB-466F-BB3F-12EE13B9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6AA1-C918-46D3-9D0D-A6678D9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CFD-ADA8-4CF0-96D7-9337FA1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CFED-9250-4415-849B-74737F1B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878-985B-4739-AF9A-F596AD82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519-F481-4A52-A460-65CB4D51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B2B-0D03-4ED3-A5D7-315E2EF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E58-13BE-46D4-8FE0-D3CC1EA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4EDC-110F-4D18-BD69-E60A129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ADB-D0A6-4810-9355-38F801B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FE6-939A-4945-8D89-CFFAA1C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ED64-2472-4070-9EB5-51D97FDD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A01-B923-4377-96E5-CA5C4AC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BCC-8F17-4142-A35F-7B86C47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EB2-E57C-4915-93C4-156B5B3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E07-DF70-44FA-8107-9A52479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780-464D-46B2-B482-DA40A4B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E73-B914-4F6A-A4C8-DF3E8B1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B3A-F4A9-47B7-AB38-72CB967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B65-B2FD-44B2-B645-6308D39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86AD-1433-4566-A246-44CCCD842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DFF2-10B5-4B57-A3F3-848940B1F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aco el Cha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5832720" cy="3722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183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el chato vivía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n un rancho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 cumplir seis año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debía entrar a la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cuel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a eso su papa lo llevó a la ciudad donde vivía su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bueli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l llegar a la escuela el primer dia de clases, su abuelita le dijo. A la salida me esperas en la puer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525600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espero un rato después empezó a caminar y se perdi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co se asusto, empezó a llorar.Un policía le pregunto su nombre, su apellido y su dire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56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843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co no sabia ni su apellido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ni su dirección .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El policía llevo a paco a la estacion de radio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ara que avisaran que allí estab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a abuelita de paco oyó el aviso y fue a buscarlo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co se alegro y prometió aprender su nombre y su direcció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01:57:03Z</dcterms:created>
  <dc:creator>Javier</dc:creator>
  <dc:description/>
  <dc:language>en-US</dc:language>
  <cp:lastModifiedBy>Javier</cp:lastModifiedBy>
  <dcterms:modified xsi:type="dcterms:W3CDTF">2007-09-14T02:52:11Z</dcterms:modified>
  <cp:revision>2</cp:revision>
  <dc:subject/>
  <dc:title>Paco el Chato</dc:title>
</cp:coreProperties>
</file>